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360" y="-9834840"/>
            <a:ext cx="360" cy="210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59C-FCD8-44E4-A02C-DF7F8871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436-E4E6-4C18-BBDB-12536B34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FC6-3E68-450D-AEA1-8BED1EE4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79E-29EC-4F94-8581-66BA23FB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AA1E-F9CF-4C7C-8138-23A66F2B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689-24B4-466D-A892-DB577A62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F7E-884A-4087-94BE-B925C8E3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4BD-C8FD-4A5B-83CE-4D37522E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55600"/>
            <a:ext cx="79981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735-CAB0-444F-A90C-3A6E3700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564-D9BF-4257-820A-8C225B53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F3A3-3AE8-4363-A08E-BD7E5B6D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BC8-4344-44E9-99FF-F81FF9A7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1760" indent="-3938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3873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0880" indent="-39852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AAB415-FCA9-47DE-B9C3-3FB4AF3AF33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39640" y="1714680"/>
            <a:ext cx="8001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Desenvolvimento e Operacionalização do Projecto – Factores de Gest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económicos (gestão adequada e racional dos recursos económicos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Formas de gestão económica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Orçamentos (custos de exploração e investimento e proveitos) pormenorizados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Procedência e tipologia do financiamento (incluindo a contribuição pública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Mapas de demonstrações de resultados, de tesouraria e balanço económic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sultados económicos e financeiro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éticos e deontológicos (código deontológico que é exigido aos participantes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Deontologia profissional exigida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Segredo profissiona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Legitimidade da intervençã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Protecção dos direitos individuai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Garantias aos utilizadores e atenção às reclamaçõ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Outros factores específic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Aspectos relacionados com campos específicos sobre os quais o projecto se debruç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Processo de avaliação (programar a gestão do processo de avaliação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Instauração do processo de avaliaçã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Formas de avaliação do processo: impacto e resultados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lementos técnicos da avaliação; registos, indicadores, etc.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Planificação temporal da avaliação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Quadro de Medidas (Pena, 2002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Matriz de duas entradas com os problemas terminais (de base) nas colunas e as respectivas soluções nas linha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Implica procurar diferentes medidas que resolvam os problemas identificados, por exemplo, nas árvores de problemas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Medidas técnicas, organizativas e voltadas para as competências das pessoa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O preenchimento é feito através da representação na matriz duma escala da importância da medida na resolução de cada um dos problem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78560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686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86160" indent="-520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Quadro de Medidas 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(Pena, 2002)</a:t>
            </a: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– de muito importante a pouco importante para a resolução do problem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063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063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71680" y="2357280"/>
          <a:ext cx="8001000" cy="3341880"/>
        </p:xfrm>
        <a:graphic>
          <a:graphicData uri="http://schemas.openxmlformats.org/drawingml/2006/table">
            <a:tbl>
              <a:tblPr/>
              <a:tblGrid>
                <a:gridCol w="1000080"/>
                <a:gridCol w="1000080"/>
                <a:gridCol w="1000080"/>
                <a:gridCol w="1000080"/>
                <a:gridCol w="1000080"/>
                <a:gridCol w="1000080"/>
                <a:gridCol w="1000080"/>
                <a:gridCol w="10004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s de base e medida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 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 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 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 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 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 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 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da 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da 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da 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da 4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da 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da 6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da 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lano Operacion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Mapa em que as medidas são tipificadas e sistematizada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A sistematização deve envolver as diversas fases da execução das medidas, implicando estruturar as condições financeiras, temporais e de recursos humanos  necessárias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Inclui a calendarização das medidas, recursos e custos associados e responsabilidad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o operacional - formato Gantt 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(Schiefer </a:t>
            </a:r>
            <a:r>
              <a:rPr b="0" i="1" lang="pt-PT" sz="1800" spc="-1" strike="noStrike">
                <a:solidFill>
                  <a:srgbClr val="00664d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, 2006)</a:t>
            </a: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71680" y="2428920"/>
          <a:ext cx="8001000" cy="3643200"/>
        </p:xfrm>
        <a:graphic>
          <a:graphicData uri="http://schemas.openxmlformats.org/drawingml/2006/table">
            <a:tbl>
              <a:tblPr/>
              <a:tblGrid>
                <a:gridCol w="1000080"/>
                <a:gridCol w="1000080"/>
                <a:gridCol w="1000080"/>
                <a:gridCol w="1000080"/>
                <a:gridCol w="1000080"/>
                <a:gridCol w="1000080"/>
                <a:gridCol w="1000080"/>
                <a:gridCol w="100044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ividad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lendári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ursos humano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ursos materiai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usto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anização responsáve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ssoa responsáve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entário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 1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 1.1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 1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 1.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 2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 2.1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 2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lano Operacional – formato Gant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Podem ser detectados conflitos potenciais entre diferentes actividades, em termos temporais ou de utilização de recursos comun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O planeamento geral dos custos do projecto é facilitado, uma vez que se tem uma visão geral das necessidades totais em termos de mão-de-obra, materiais e equipament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A supervisão do projecto é mais fácil na medida em que as responsabilidades  das organizações e das pessoas ficam claramente definidas 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947880" y="228600"/>
            <a:ext cx="7146720" cy="112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riz do quadro lógico 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riz de planeamento de proj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"/>
          <p:cNvSpPr/>
          <p:nvPr/>
        </p:nvSpPr>
        <p:spPr>
          <a:xfrm>
            <a:off x="723960" y="1981080"/>
            <a:ext cx="76658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23960" y="1981080"/>
            <a:ext cx="7665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723960" y="1981080"/>
            <a:ext cx="1440" cy="3657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723960" y="1981080"/>
            <a:ext cx="126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25360" y="2008080"/>
            <a:ext cx="7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ios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319800" y="200808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póte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804960" y="223056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criç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3186000" y="2230560"/>
            <a:ext cx="10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4721040" y="2230560"/>
            <a:ext cx="95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erificaç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6319800" y="223056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is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765360" y="2470320"/>
            <a:ext cx="124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 ger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792360" y="2690640"/>
            <a:ext cx="169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desenvolvimento o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806040" y="2911320"/>
            <a:ext cx="53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766800" y="3371760"/>
            <a:ext cx="100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799920" y="3594240"/>
            <a:ext cx="10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pecífic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801720" y="381492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imediatos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01720" y="42750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768960" y="4735440"/>
            <a:ext cx="91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804960" y="519588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21"/>
          <p:cNvSpPr/>
          <p:nvPr/>
        </p:nvSpPr>
        <p:spPr>
          <a:xfrm flipV="1">
            <a:off x="31050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3105000" y="1971720"/>
            <a:ext cx="12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723960" y="1981080"/>
            <a:ext cx="23702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723960" y="1981080"/>
            <a:ext cx="23702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3094200" y="1971720"/>
            <a:ext cx="3636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26"/>
          <p:cNvSpPr/>
          <p:nvPr/>
        </p:nvSpPr>
        <p:spPr>
          <a:xfrm>
            <a:off x="723960" y="2211480"/>
            <a:ext cx="23702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723960" y="2211480"/>
            <a:ext cx="23702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 flipV="1">
            <a:off x="464184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4641840" y="197172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4629240" y="2000160"/>
            <a:ext cx="3636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3130560" y="221148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3130560" y="221148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33"/>
          <p:cNvSpPr/>
          <p:nvPr/>
        </p:nvSpPr>
        <p:spPr>
          <a:xfrm flipV="1">
            <a:off x="623736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623736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5"/>
          <p:cNvSpPr/>
          <p:nvPr/>
        </p:nvSpPr>
        <p:spPr>
          <a:xfrm>
            <a:off x="6226200" y="2000160"/>
            <a:ext cx="349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36"/>
          <p:cNvSpPr/>
          <p:nvPr/>
        </p:nvSpPr>
        <p:spPr>
          <a:xfrm>
            <a:off x="4665600" y="221148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7"/>
          <p:cNvSpPr/>
          <p:nvPr/>
        </p:nvSpPr>
        <p:spPr>
          <a:xfrm>
            <a:off x="4665600" y="221148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38"/>
          <p:cNvSpPr/>
          <p:nvPr/>
        </p:nvSpPr>
        <p:spPr>
          <a:xfrm flipV="1">
            <a:off x="83772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9"/>
          <p:cNvSpPr/>
          <p:nvPr/>
        </p:nvSpPr>
        <p:spPr>
          <a:xfrm>
            <a:off x="837720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0"/>
          <p:cNvSpPr/>
          <p:nvPr/>
        </p:nvSpPr>
        <p:spPr>
          <a:xfrm>
            <a:off x="8366040" y="2000160"/>
            <a:ext cx="367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1"/>
          <p:cNvSpPr/>
          <p:nvPr/>
        </p:nvSpPr>
        <p:spPr>
          <a:xfrm>
            <a:off x="711360" y="2432160"/>
            <a:ext cx="23828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2"/>
          <p:cNvSpPr/>
          <p:nvPr/>
        </p:nvSpPr>
        <p:spPr>
          <a:xfrm>
            <a:off x="723960" y="1981080"/>
            <a:ext cx="1440" cy="451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3"/>
          <p:cNvSpPr/>
          <p:nvPr/>
        </p:nvSpPr>
        <p:spPr>
          <a:xfrm>
            <a:off x="723960" y="1981080"/>
            <a:ext cx="12600" cy="45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44"/>
          <p:cNvSpPr/>
          <p:nvPr/>
        </p:nvSpPr>
        <p:spPr>
          <a:xfrm>
            <a:off x="747720" y="311472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5"/>
          <p:cNvSpPr/>
          <p:nvPr/>
        </p:nvSpPr>
        <p:spPr>
          <a:xfrm>
            <a:off x="747720" y="311472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6"/>
          <p:cNvSpPr/>
          <p:nvPr/>
        </p:nvSpPr>
        <p:spPr>
          <a:xfrm>
            <a:off x="3130560" y="311472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7"/>
          <p:cNvSpPr/>
          <p:nvPr/>
        </p:nvSpPr>
        <p:spPr>
          <a:xfrm>
            <a:off x="3130560" y="311472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48"/>
          <p:cNvSpPr/>
          <p:nvPr/>
        </p:nvSpPr>
        <p:spPr>
          <a:xfrm>
            <a:off x="4665600" y="311472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9"/>
          <p:cNvSpPr/>
          <p:nvPr/>
        </p:nvSpPr>
        <p:spPr>
          <a:xfrm>
            <a:off x="4665600" y="311472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50"/>
          <p:cNvSpPr/>
          <p:nvPr/>
        </p:nvSpPr>
        <p:spPr>
          <a:xfrm>
            <a:off x="747720" y="401796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1"/>
          <p:cNvSpPr/>
          <p:nvPr/>
        </p:nvSpPr>
        <p:spPr>
          <a:xfrm>
            <a:off x="747720" y="4017960"/>
            <a:ext cx="23464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52"/>
          <p:cNvSpPr/>
          <p:nvPr/>
        </p:nvSpPr>
        <p:spPr>
          <a:xfrm>
            <a:off x="3130560" y="401796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3"/>
          <p:cNvSpPr/>
          <p:nvPr/>
        </p:nvSpPr>
        <p:spPr>
          <a:xfrm>
            <a:off x="3130560" y="4017960"/>
            <a:ext cx="14986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4665600" y="401796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55"/>
          <p:cNvSpPr/>
          <p:nvPr/>
        </p:nvSpPr>
        <p:spPr>
          <a:xfrm>
            <a:off x="4665600" y="4017960"/>
            <a:ext cx="156060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56"/>
          <p:cNvSpPr/>
          <p:nvPr/>
        </p:nvSpPr>
        <p:spPr>
          <a:xfrm>
            <a:off x="747720" y="447840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57"/>
          <p:cNvSpPr/>
          <p:nvPr/>
        </p:nvSpPr>
        <p:spPr>
          <a:xfrm>
            <a:off x="747720" y="447840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8"/>
          <p:cNvSpPr/>
          <p:nvPr/>
        </p:nvSpPr>
        <p:spPr>
          <a:xfrm>
            <a:off x="3130560" y="447840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9"/>
          <p:cNvSpPr/>
          <p:nvPr/>
        </p:nvSpPr>
        <p:spPr>
          <a:xfrm>
            <a:off x="3130560" y="447840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0"/>
          <p:cNvSpPr/>
          <p:nvPr/>
        </p:nvSpPr>
        <p:spPr>
          <a:xfrm>
            <a:off x="4665600" y="447840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1"/>
          <p:cNvSpPr/>
          <p:nvPr/>
        </p:nvSpPr>
        <p:spPr>
          <a:xfrm>
            <a:off x="4665600" y="447840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62"/>
          <p:cNvSpPr/>
          <p:nvPr/>
        </p:nvSpPr>
        <p:spPr>
          <a:xfrm>
            <a:off x="747720" y="493884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3"/>
          <p:cNvSpPr/>
          <p:nvPr/>
        </p:nvSpPr>
        <p:spPr>
          <a:xfrm>
            <a:off x="747720" y="493884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64"/>
          <p:cNvSpPr/>
          <p:nvPr/>
        </p:nvSpPr>
        <p:spPr>
          <a:xfrm>
            <a:off x="3130560" y="493884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5"/>
          <p:cNvSpPr/>
          <p:nvPr/>
        </p:nvSpPr>
        <p:spPr>
          <a:xfrm>
            <a:off x="3143160" y="4786200"/>
            <a:ext cx="14986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400" spc="-1" strike="noStrike">
                <a:solidFill>
                  <a:srgbClr val="0d0d0d"/>
                </a:solidFill>
                <a:latin typeface="Arial"/>
              </a:rPr>
              <a:t>Orçamen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66"/>
          <p:cNvSpPr/>
          <p:nvPr/>
        </p:nvSpPr>
        <p:spPr>
          <a:xfrm>
            <a:off x="4665600" y="493884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7"/>
          <p:cNvSpPr/>
          <p:nvPr/>
        </p:nvSpPr>
        <p:spPr>
          <a:xfrm>
            <a:off x="4665600" y="493884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68"/>
          <p:cNvSpPr/>
          <p:nvPr/>
        </p:nvSpPr>
        <p:spPr>
          <a:xfrm>
            <a:off x="747720" y="5398920"/>
            <a:ext cx="23464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9"/>
          <p:cNvSpPr/>
          <p:nvPr/>
        </p:nvSpPr>
        <p:spPr>
          <a:xfrm>
            <a:off x="747720" y="5398920"/>
            <a:ext cx="2346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0"/>
          <p:cNvSpPr/>
          <p:nvPr/>
        </p:nvSpPr>
        <p:spPr>
          <a:xfrm>
            <a:off x="3130560" y="5398920"/>
            <a:ext cx="14986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1"/>
          <p:cNvSpPr/>
          <p:nvPr/>
        </p:nvSpPr>
        <p:spPr>
          <a:xfrm>
            <a:off x="3130560" y="5398920"/>
            <a:ext cx="14986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2"/>
          <p:cNvSpPr/>
          <p:nvPr/>
        </p:nvSpPr>
        <p:spPr>
          <a:xfrm>
            <a:off x="4665600" y="5398920"/>
            <a:ext cx="1560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73"/>
          <p:cNvSpPr/>
          <p:nvPr/>
        </p:nvSpPr>
        <p:spPr>
          <a:xfrm>
            <a:off x="4665600" y="5398920"/>
            <a:ext cx="15606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4"/>
          <p:cNvSpPr/>
          <p:nvPr/>
        </p:nvSpPr>
        <p:spPr>
          <a:xfrm>
            <a:off x="711360" y="2460600"/>
            <a:ext cx="36360" cy="318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75"/>
          <p:cNvSpPr/>
          <p:nvPr/>
        </p:nvSpPr>
        <p:spPr>
          <a:xfrm>
            <a:off x="309420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76"/>
          <p:cNvSpPr/>
          <p:nvPr/>
        </p:nvSpPr>
        <p:spPr>
          <a:xfrm>
            <a:off x="462924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77"/>
          <p:cNvSpPr/>
          <p:nvPr/>
        </p:nvSpPr>
        <p:spPr>
          <a:xfrm>
            <a:off x="6226200" y="2211480"/>
            <a:ext cx="349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8"/>
          <p:cNvSpPr/>
          <p:nvPr/>
        </p:nvSpPr>
        <p:spPr>
          <a:xfrm>
            <a:off x="8366040" y="2211480"/>
            <a:ext cx="367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79"/>
          <p:cNvSpPr/>
          <p:nvPr/>
        </p:nvSpPr>
        <p:spPr>
          <a:xfrm>
            <a:off x="3130560" y="197172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80"/>
          <p:cNvSpPr/>
          <p:nvPr/>
        </p:nvSpPr>
        <p:spPr>
          <a:xfrm>
            <a:off x="6261120" y="221148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81"/>
          <p:cNvSpPr/>
          <p:nvPr/>
        </p:nvSpPr>
        <p:spPr>
          <a:xfrm>
            <a:off x="6261120" y="221148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130560" y="243216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3"/>
          <p:cNvSpPr/>
          <p:nvPr/>
        </p:nvSpPr>
        <p:spPr>
          <a:xfrm>
            <a:off x="6261120" y="311472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84"/>
          <p:cNvSpPr/>
          <p:nvPr/>
        </p:nvSpPr>
        <p:spPr>
          <a:xfrm>
            <a:off x="6261120" y="311472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85"/>
          <p:cNvSpPr/>
          <p:nvPr/>
        </p:nvSpPr>
        <p:spPr>
          <a:xfrm>
            <a:off x="747720" y="333540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86"/>
          <p:cNvSpPr/>
          <p:nvPr/>
        </p:nvSpPr>
        <p:spPr>
          <a:xfrm>
            <a:off x="6261120" y="401796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87"/>
          <p:cNvSpPr/>
          <p:nvPr/>
        </p:nvSpPr>
        <p:spPr>
          <a:xfrm>
            <a:off x="6261120" y="4017960"/>
            <a:ext cx="2104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88"/>
          <p:cNvSpPr/>
          <p:nvPr/>
        </p:nvSpPr>
        <p:spPr>
          <a:xfrm>
            <a:off x="747720" y="423864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89"/>
          <p:cNvSpPr/>
          <p:nvPr/>
        </p:nvSpPr>
        <p:spPr>
          <a:xfrm>
            <a:off x="6261120" y="447840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90"/>
          <p:cNvSpPr/>
          <p:nvPr/>
        </p:nvSpPr>
        <p:spPr>
          <a:xfrm>
            <a:off x="6261120" y="447840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91"/>
          <p:cNvSpPr/>
          <p:nvPr/>
        </p:nvSpPr>
        <p:spPr>
          <a:xfrm>
            <a:off x="747720" y="469908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92"/>
          <p:cNvSpPr/>
          <p:nvPr/>
        </p:nvSpPr>
        <p:spPr>
          <a:xfrm>
            <a:off x="6261120" y="493884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93"/>
          <p:cNvSpPr/>
          <p:nvPr/>
        </p:nvSpPr>
        <p:spPr>
          <a:xfrm>
            <a:off x="6261120" y="493884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94"/>
          <p:cNvSpPr/>
          <p:nvPr/>
        </p:nvSpPr>
        <p:spPr>
          <a:xfrm>
            <a:off x="747720" y="515952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95"/>
          <p:cNvSpPr/>
          <p:nvPr/>
        </p:nvSpPr>
        <p:spPr>
          <a:xfrm>
            <a:off x="6261120" y="5398920"/>
            <a:ext cx="210492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96"/>
          <p:cNvSpPr/>
          <p:nvPr/>
        </p:nvSpPr>
        <p:spPr>
          <a:xfrm>
            <a:off x="6261120" y="5398920"/>
            <a:ext cx="2104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97"/>
          <p:cNvSpPr/>
          <p:nvPr/>
        </p:nvSpPr>
        <p:spPr>
          <a:xfrm>
            <a:off x="747720" y="5619600"/>
            <a:ext cx="76550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Para executar os conteúdos e objectivos dum projecto num contexto determinado é necessária a utilização dum conjunto de factores de gestão, entendidos como cada um dos elementos ou das circunstâncias que irão permitir obter o resultado pretendido (Trilla, 2004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A gestão é a tomada de decisões entre um conjunto de recursos, possibilidades, técnicas e instrumentos que se colocam à disposição dum objectivo final.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Planificação e programaçã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jurídic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organizativos e recursos human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infraestruturais e técnic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Gestão da imagem e da comunicaçã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Gestão das relaçõe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económic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éticos e deontológic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Outros factores específic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Processo de avaliaçã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Planificação e programação (desenvolvimento, sequência e distribuição no tempo das diferentes acçõ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Selecção das tipologias de programação e planificação mais adequadas aos conteúdos e objectiv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Previsão e estabelecimento da sequência das tarefa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Temporização das tarefa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Formalização da planificação: gráficos, diagramas, cronograma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tc.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jurídicos (relação com âmbitos e normas jurídicas; compilar e ponderar a influência destes factores na concretização do project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Legislação básica relacionada com o project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Legislação fiscal, tributária e laboral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sponsabilidade jurídica, penal e civi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Previsão e gestão de risc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tc.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organizativos e recursos humanos (propostas de estruturação da organização formal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strutura da organização formal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Modelo de organização, etapas ou fases da organização, níveis de responsabilidade, circuito administrativo e de circulação da informaçã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Número de pessoas necessárias, distribuição de funções, perfis e postos de trabalho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Orientação geral do tratamento dos recursos humanos, formação, condições de trabalh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tc.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infra-estruturais e técnicos (adequação das infraestruturas, equipamento técnico necessário, formas de gestão e de utilizaçã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Descrição das infraestruturas imobiliárias e espaços necessários e da adequação de espaços existente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Processos de aquisição, aluguer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quipamento técnico de acordo com a finalidade e a programaçã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Previsão e forma da manutenção; controlo, monitorização e segurança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tc.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Gestão da imagem e da comunicação (concepção duma política de comunicação e imagem para o projecto de acordo com a finalidade social e os objectivos 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Imagem corporativa da instituição/project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Política de comunicação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Difusão, visibilidade e concepçã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tc.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Gestão das relações (prever a manutenção e a potenciação das relações entre o projecto e o contexto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lações do projecto com o ambiente de acordo com a finalidade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lações com os diferentes níveis da administração pública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lações com outras instituições semelhante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lações com os meios de comunicaçã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lações com os utentes e grupos alv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lações internas.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os Fonseca</dc:creator>
  <dc:description/>
  <dc:language>en-US</dc:language>
  <cp:lastModifiedBy>Operador</cp:lastModifiedBy>
  <dcterms:modified xsi:type="dcterms:W3CDTF">2008-04-17T15:12:49Z</dcterms:modified>
  <cp:revision>524</cp:revision>
  <dc:subject/>
  <dc:title>Introdução às Políticas Agrárias</dc:title>
</cp:coreProperties>
</file>